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18.wmf" ContentType="image/x-wmf"/>
  <Override PartName="/ppt/media/image15.jpeg" ContentType="image/jpeg"/>
  <Override PartName="/ppt/media/image14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5.wmf" ContentType="image/x-wmf"/>
  <Override PartName="/ppt/media/image20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EDC-2589-4341-9E2C-6EB4E6CE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295-1328-481D-95EB-935F665A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419-E813-4C19-9A64-B201C833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BE4-6CE8-4928-8B67-AC4A1161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F401-D807-45F6-953D-00494E3B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1E35-2360-4A7B-8568-078118E9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3521-756F-4B82-A312-528C113F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73CC-296C-4577-9716-2142CB3A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BD9E-EE04-4C21-A49F-330756A2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176B-0AF3-4BB6-95D9-248AB936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7991-8B87-4848-BB8B-55A49DB8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DC9-4E1C-426E-B871-1E8E2F8C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144B-A5C2-4021-A7D7-C0E1564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4372-0037-4ABB-9A81-62B3C59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C994-9807-477E-8ADB-2C2294BE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065F-4ACA-42DE-B242-A0D922BB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FF5F-18F6-4C8B-AEEA-6899C61B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C76-BADE-46AA-AC34-94C798AF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2AA-2F49-4568-811D-4910C58C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491-7EDE-4AE8-9139-7F8306D4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630-D08B-4253-8056-8F21B80B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107-2BCB-4733-BD1A-BA21067C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D1C-CB51-411A-B797-9A1D56E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768-1BE7-4761-8627-C7222DED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4342-F01F-44E8-ADE7-11AF586CF70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2E84-C493-4FD4-AEEF-47FD01CCE8E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ertramliger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Notes: Characteristics of Life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333"/>
                </a:solidFill>
                <a:latin typeface="Times New Roman"/>
              </a:rPr>
              <a:t>Unit – Introduction to Biolog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c0b"/>
                </a:solidFill>
                <a:latin typeface="Times New Roman"/>
              </a:rPr>
              <a:t>These Notes Fulfill Most of the NCSCOS Objectiv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80880" y="838080"/>
            <a:ext cx="8763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2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Stimulu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any condition that require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n organism to adjust. Ex: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Temperatu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2666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2a3d7a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Response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a reaction to a stimulus. Ex: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Shiver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80880" y="4038480"/>
            <a:ext cx="8534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4.  The ability to respond to stimuli in th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nvironment can mean the differenc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between life and death. Ex: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Hypothermi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219320" y="1219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Pavlov and the Dog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6" name="Picture 6" descr="PAVLOV"/>
          <p:cNvPicPr/>
          <p:nvPr/>
        </p:nvPicPr>
        <p:blipFill>
          <a:blip r:embed="rId1"/>
          <a:stretch/>
        </p:blipFill>
        <p:spPr>
          <a:xfrm>
            <a:off x="1752480" y="2057400"/>
            <a:ext cx="3962520" cy="28954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6095880" y="24382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Linked Dog salivation to the ringing of a bell = learned behavi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609480" y="609480"/>
            <a:ext cx="8305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Living things must be able to obtain and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use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material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and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energ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143000" y="205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1.  Energy is the ability to do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work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143000" y="26668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Plants take in the Sun’s energ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rough the process of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photosynthesi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1" name="Picture 6" descr="photosynthesis.jpg"/>
          <p:cNvPicPr/>
          <p:nvPr/>
        </p:nvPicPr>
        <p:blipFill>
          <a:blip r:embed="rId1"/>
          <a:stretch/>
        </p:blipFill>
        <p:spPr>
          <a:xfrm>
            <a:off x="3200400" y="4191120"/>
            <a:ext cx="2895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447920" y="838080"/>
            <a:ext cx="7391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very organism (including plants)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nvert the energy of food into a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usable form of energy through th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process of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respiration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3" name="Picture 4" descr="Respiration.jpg"/>
          <p:cNvPicPr/>
          <p:nvPr/>
        </p:nvPicPr>
        <p:blipFill>
          <a:blip r:embed="rId1"/>
          <a:stretch/>
        </p:blipFill>
        <p:spPr>
          <a:xfrm>
            <a:off x="3581280" y="40384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609480" y="83808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n organism must be able to regulate it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nternal environment.  The regulation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n organism’s internal environment to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aintain conditions suitable for it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survival is called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Homeostasi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219320" y="510552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body temperature and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1903"/>
                </a:solidFill>
                <a:latin typeface="Times New Roman"/>
              </a:rPr>
              <a:t>    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perspiratio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086600" y="4800600"/>
            <a:ext cx="1595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838080" y="762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H.  Living things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Adapt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and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Evolve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43000" y="1523880"/>
            <a:ext cx="7772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Adaptation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any inherited structure,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behavior, or internal process that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nables an organism to respond to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stimuli and to better survive in a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219320" y="8380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e gradual accumulation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daptations in a population over tim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s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Evolution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219320" y="33526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3. Both Adaptations and Evolution allow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 species to survive changes in it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II.  Life Processes Vocabulary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38080" y="14479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2a3d7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Nutri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all of the activities by which an  organism obtains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food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from the environment and breaks it down into a form that can be absorbed and used by its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ell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38080" y="36576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B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Transport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th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absorp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distribu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(circulation) of essential materials throughout the organis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838080" y="7621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C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Respira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release of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energy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from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food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by a complex series of chemical reactions within th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ell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of the organis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838080" y="24382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D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Excre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– process by which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waste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of metabolism are remov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838080" y="36576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E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Synthesi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process by which simpl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molecule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are combined chemically to form mor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omplex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molecu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38080" y="6858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F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Regula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a number of coordinated activities that serve to maintain internal stability =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Homeostasi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, in the constantly changing environm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38080" y="26668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G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Growth</a:t>
            </a:r>
            <a:r>
              <a:rPr b="0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– an increase in th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of an organism resulting from th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synthesis</a:t>
            </a:r>
            <a:r>
              <a:rPr b="0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of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food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substances into new materials and structur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38080" y="41911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H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Reproduc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process by which organisms give rise to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offspring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14400" y="5257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I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Metabolism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all of the activities of th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Life Processe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sential Questions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c0b"/>
                </a:solidFill>
                <a:latin typeface="Times New Roman"/>
              </a:rPr>
              <a:t>What characteristics do all living organisms share in common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a50021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c0b"/>
                </a:solidFill>
                <a:latin typeface="Times New Roman"/>
              </a:rPr>
              <a:t>How do organisms carry out their life func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57200" y="762120"/>
            <a:ext cx="8534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.  Anything that possesses all of th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haracteristics of Life is known as a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Organism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3276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I.  Characteristics of Life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219320" y="411480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.  Living things are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organized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in unit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alled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cell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8" descr="MPj01826480000[1]"/>
          <p:cNvPicPr/>
          <p:nvPr/>
        </p:nvPicPr>
        <p:blipFill>
          <a:blip r:embed="rId1"/>
          <a:stretch/>
        </p:blipFill>
        <p:spPr>
          <a:xfrm>
            <a:off x="4952880" y="4876920"/>
            <a:ext cx="259092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57200" y="7621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1.  Hierarchy of Organization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14400" y="5410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. Organ System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1440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b. Cell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144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. Tissue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14400" y="4343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d. Organ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14400" y="1523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. Molecules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10" descr="MCj02421410000[1]"/>
          <p:cNvPicPr/>
          <p:nvPr/>
        </p:nvPicPr>
        <p:blipFill>
          <a:blip r:embed="rId1"/>
          <a:stretch/>
        </p:blipFill>
        <p:spPr>
          <a:xfrm>
            <a:off x="7086600" y="762120"/>
            <a:ext cx="1814400" cy="129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MCBD20088_0000[1]"/>
          <p:cNvPicPr/>
          <p:nvPr/>
        </p:nvPicPr>
        <p:blipFill>
          <a:blip r:embed="rId2"/>
          <a:stretch/>
        </p:blipFill>
        <p:spPr>
          <a:xfrm>
            <a:off x="7804080" y="1905120"/>
            <a:ext cx="1339920" cy="1100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MPj02898850000[1]"/>
          <p:cNvPicPr/>
          <p:nvPr/>
        </p:nvPicPr>
        <p:blipFill>
          <a:blip r:embed="rId3"/>
          <a:stretch/>
        </p:blipFill>
        <p:spPr>
          <a:xfrm>
            <a:off x="6705720" y="297180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MPj04028580000[1]"/>
          <p:cNvPicPr/>
          <p:nvPr/>
        </p:nvPicPr>
        <p:blipFill>
          <a:blip r:embed="rId4"/>
          <a:stretch/>
        </p:blipFill>
        <p:spPr>
          <a:xfrm>
            <a:off x="7315200" y="3809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MPj04387370000[1]"/>
          <p:cNvPicPr/>
          <p:nvPr/>
        </p:nvPicPr>
        <p:blipFill>
          <a:blip r:embed="rId5"/>
          <a:stretch/>
        </p:blipFill>
        <p:spPr>
          <a:xfrm>
            <a:off x="7524720" y="4876920"/>
            <a:ext cx="1619280" cy="1752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3505320" y="14479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smallest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hemical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unit of a</a:t>
            </a:r>
            <a:r>
              <a:rPr b="0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omp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514600" y="2514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basic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unit of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 lif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2819520" y="3200400"/>
            <a:ext cx="39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group of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ells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at perform a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func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2743200" y="434340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group of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tissues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at perform related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func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4114800" y="54864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group of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organs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at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work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ogeth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62120" y="762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B.  Living things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Reproduce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676520" y="15238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1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Reproduction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the production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offsp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600200" y="3352680"/>
            <a:ext cx="7391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2.  It is not essential for the survival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e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individual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organism, but it i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ssential for the continuation of a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specie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167652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600200" y="762120"/>
            <a:ext cx="7238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3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Specie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a group of organism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at can interbreed and produc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fertile offsp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Picture 6" descr="180px-Bertramlig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819520"/>
            <a:ext cx="1981080" cy="1676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tiger pictures"/>
          <p:cNvPicPr/>
          <p:nvPr/>
        </p:nvPicPr>
        <p:blipFill>
          <a:blip r:embed="rId3"/>
          <a:stretch/>
        </p:blipFill>
        <p:spPr>
          <a:xfrm>
            <a:off x="457200" y="3124080"/>
            <a:ext cx="2209680" cy="15098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9"/>
          <p:cNvSpPr/>
          <p:nvPr/>
        </p:nvSpPr>
        <p:spPr>
          <a:xfrm>
            <a:off x="2971800" y="3581280"/>
            <a:ext cx="380880" cy="38124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Picture 11" descr="Male lion"/>
          <p:cNvPicPr/>
          <p:nvPr/>
        </p:nvPicPr>
        <p:blipFill>
          <a:blip r:embed="rId4"/>
          <a:stretch/>
        </p:blipFill>
        <p:spPr>
          <a:xfrm>
            <a:off x="3962520" y="3124080"/>
            <a:ext cx="1600200" cy="17528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2"/>
          <p:cNvSpPr/>
          <p:nvPr/>
        </p:nvSpPr>
        <p:spPr>
          <a:xfrm>
            <a:off x="5791320" y="3809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808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934320" y="2362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c0b"/>
                </a:solidFill>
                <a:latin typeface="Times New Roman"/>
              </a:rPr>
              <a:t>Lig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17" descr="Photo of a Mule, Photo, Photos, Photographs, Picture, Pictures"/>
          <p:cNvPicPr/>
          <p:nvPr/>
        </p:nvPicPr>
        <p:blipFill>
          <a:blip r:embed="rId5"/>
          <a:stretch/>
        </p:blipFill>
        <p:spPr>
          <a:xfrm>
            <a:off x="7010280" y="4800600"/>
            <a:ext cx="1330560" cy="1724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Buy at Art.com"/>
          <p:cNvPicPr/>
          <p:nvPr/>
        </p:nvPicPr>
        <p:blipFill>
          <a:blip r:embed="rId6"/>
          <a:stretch/>
        </p:blipFill>
        <p:spPr>
          <a:xfrm>
            <a:off x="3505320" y="5038560"/>
            <a:ext cx="1676160" cy="18194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0"/>
          <p:cNvSpPr/>
          <p:nvPr/>
        </p:nvSpPr>
        <p:spPr>
          <a:xfrm>
            <a:off x="5791320" y="5410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808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AutoShape 21"/>
          <p:cNvSpPr/>
          <p:nvPr/>
        </p:nvSpPr>
        <p:spPr>
          <a:xfrm>
            <a:off x="2743200" y="5562720"/>
            <a:ext cx="380880" cy="38088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83059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c0b"/>
                </a:solidFill>
                <a:latin typeface="Times New Roman"/>
              </a:rPr>
              <a:t>Mu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Picture 24" descr="Adam"/>
          <p:cNvPicPr/>
          <p:nvPr/>
        </p:nvPicPr>
        <p:blipFill>
          <a:blip r:embed="rId7"/>
          <a:stretch/>
        </p:blipFill>
        <p:spPr>
          <a:xfrm>
            <a:off x="685800" y="5029200"/>
            <a:ext cx="1800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85800" y="457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.  Living things are able to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change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143000" y="121932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1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Growth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increase in the amount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living material and the formation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new structure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4876920" y="2743200"/>
            <a:ext cx="609480" cy="5335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5791320" y="2971800"/>
            <a:ext cx="9144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934320" y="2590920"/>
            <a:ext cx="1066680" cy="1066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219320" y="373392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2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Development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all of the change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at take place during the life of a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organism.  This is considered a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ncrease in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complexit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13" descr="tadpole_to_frog.jpg"/>
          <p:cNvPicPr/>
          <p:nvPr/>
        </p:nvPicPr>
        <p:blipFill>
          <a:blip r:embed="rId1"/>
          <a:stretch/>
        </p:blipFill>
        <p:spPr>
          <a:xfrm>
            <a:off x="152280" y="46483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62120" y="76212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D.  Living things are based on th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universal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Genetic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code, which is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DNA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Picture 5" descr="MCj03981910000[1]"/>
          <p:cNvPicPr/>
          <p:nvPr/>
        </p:nvPicPr>
        <p:blipFill>
          <a:blip r:embed="rId1"/>
          <a:stretch/>
        </p:blipFill>
        <p:spPr>
          <a:xfrm>
            <a:off x="1981080" y="30481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MPj03901130000[1]"/>
          <p:cNvPicPr/>
          <p:nvPr/>
        </p:nvPicPr>
        <p:blipFill>
          <a:blip r:embed="rId2"/>
          <a:stretch/>
        </p:blipFill>
        <p:spPr>
          <a:xfrm>
            <a:off x="4952880" y="259092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5800" y="76212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.  Living things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adjust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to their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surrounding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143000" y="228600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1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Environment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surroundings of a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ndividual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676520" y="35812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.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Ai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676520" y="41911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b.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Wat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676520" y="48006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.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Weath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676520" y="5410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d.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Temperatu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676520" y="6019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.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Other organisms in the are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9:49:01Z</dcterms:created>
  <dc:creator>sautrey</dc:creator>
  <dc:description/>
  <dc:language>en-US</dc:language>
  <cp:lastModifiedBy>teacher</cp:lastModifiedBy>
  <dcterms:modified xsi:type="dcterms:W3CDTF">2009-09-01T13:27:54Z</dcterms:modified>
  <cp:revision>7</cp:revision>
  <dc:subject/>
  <dc:title>Notes: Characteristics of Life</dc:title>
</cp:coreProperties>
</file>